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A2E-CFD9-4CDC-97D1-6582E511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0C4-046F-4A44-9959-0FF8959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9C6-3D15-44B0-913F-6B29D0B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59A-4A37-4214-899A-97BCC115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BEEB-AD63-41B7-B62A-09E45037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D0C-453A-412E-BC4F-0A652DD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DE4B-2FA1-4615-8CC9-28351DC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368-A755-4D8E-A068-C74E67C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9568-ED99-497D-8C5B-5170DBA0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5641-58ED-4D29-95B6-6B7EFD5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5F4D-1231-4A98-90F9-D738F2D2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7BF-F22F-483B-BC41-078B6A0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4C0-2592-45CB-A5A7-8AB89C0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1830-015E-4590-933C-12D31F9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0730-AD7E-4B22-B86B-5B5745E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B18-0575-478A-9BA1-4DC1B7D1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042E-491B-44AD-A795-B87B3739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9479-9A5F-476C-99BD-7217A0FB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4A5C-7E48-47A3-8D3B-F22AA2D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D9F6-6D5D-4CA1-97A3-A611BD4C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DE4E-26FA-4CFE-AF08-97623982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06FA-46DC-43B4-8CC6-01D40C7F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EE0-81EA-4A1E-B4BA-017AEEE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05A1-839A-4A4A-9873-1F04B93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40D1-DDD7-48E2-B457-664E1B2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81C2-2E4C-462A-AC67-C376344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83E7-3A22-4238-9F52-61C2302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0944-F54E-44D6-8705-8F0A8337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24AC-DA7C-430C-A3A4-05DC62D4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5FE4-CD8A-411C-A426-7FB8E6B7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E67D-CCA0-4921-A92C-510A4F9F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3AAB-D7A3-4FF5-A8D9-3D04DBAB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2010-0DDE-4522-9910-9E2DD0D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38F-27F2-40DF-901B-41DDF32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EB3C-AAAD-4C00-9522-DA3F971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75FE-A32D-414E-86E1-0FAD00B0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05DB-A5DD-48D6-BF70-765AB7FD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5031-69D4-4D71-9FEA-A02D825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C162-5766-4BE6-9DC3-A1F7362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82F3-0295-4596-8AE1-EB51C83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8577-409D-46E1-B710-90A3447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FE97-2C45-42B8-9AD1-111EC348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0E33-7862-4526-9048-7523A11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BE0-CE52-469C-820E-0CC3CF5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2C1-0DCB-456B-B978-AF788C0C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EA9-FD81-4FCF-9454-CF4AFC5D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F79-8485-403B-912A-1E6E045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748-343E-46B4-8F71-0BE8D56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3A54-EAE3-4218-934D-7E2052CFDC34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86C-A702-40EC-A6D4-45A2A716C0E0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62DE-BF79-42BE-B6D8-45C7329CCDAA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39A1-013E-4AA7-83BB-97567A30EF2E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01760" y="378000"/>
            <a:ext cx="8523000" cy="190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C:\Users\Adi\Desktop\FRANCE2-Equipe2\logo-france2.jpg"/>
          <p:cNvPicPr/>
          <p:nvPr/>
        </p:nvPicPr>
        <p:blipFill>
          <a:blip r:embed="rId2"/>
          <a:stretch/>
        </p:blipFill>
        <p:spPr>
          <a:xfrm>
            <a:off x="4952880" y="274320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 u="sng">
                <a:solidFill>
                  <a:srgbClr val="000000"/>
                </a:solidFill>
                <a:uFillTx/>
                <a:latin typeface="Calibri"/>
              </a:rPr>
              <a:t>Program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ocumetai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eries et fi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iverti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J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Anima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Users\Adi\Desktop\FRANCE2-Equipe2\documentaire.jpg"/>
          <p:cNvPicPr/>
          <p:nvPr/>
        </p:nvPicPr>
        <p:blipFill>
          <a:blip r:embed="rId1"/>
          <a:stretch/>
        </p:blipFill>
        <p:spPr>
          <a:xfrm>
            <a:off x="3882960" y="755640"/>
            <a:ext cx="2541600" cy="1822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Adi\Desktop\FRANCE2-Equipe2\TVD.jpg"/>
          <p:cNvPicPr/>
          <p:nvPr/>
        </p:nvPicPr>
        <p:blipFill>
          <a:blip r:embed="rId2"/>
          <a:stretch/>
        </p:blipFill>
        <p:spPr>
          <a:xfrm>
            <a:off x="3956040" y="4413240"/>
            <a:ext cx="5200560" cy="2457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Adi\Desktop\FRANCE2-Equipe2\jeux.jpg"/>
          <p:cNvPicPr/>
          <p:nvPr/>
        </p:nvPicPr>
        <p:blipFill>
          <a:blip r:embed="rId3"/>
          <a:stretch/>
        </p:blipFill>
        <p:spPr>
          <a:xfrm>
            <a:off x="-85680" y="4834080"/>
            <a:ext cx="3822480" cy="2341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Users\Adi\Desktop\FRANCE2-Equipe2\sport.jpg"/>
          <p:cNvPicPr/>
          <p:nvPr/>
        </p:nvPicPr>
        <p:blipFill>
          <a:blip r:embed="rId4"/>
          <a:stretch/>
        </p:blipFill>
        <p:spPr>
          <a:xfrm>
            <a:off x="3882960" y="2584440"/>
            <a:ext cx="2627280" cy="184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Users\Adi\Desktop\FRANCE2-Equipe2\animateur.jpg"/>
          <p:cNvPicPr/>
          <p:nvPr/>
        </p:nvPicPr>
        <p:blipFill>
          <a:blip r:embed="rId5"/>
          <a:stretch/>
        </p:blipFill>
        <p:spPr>
          <a:xfrm>
            <a:off x="6400800" y="762120"/>
            <a:ext cx="2743200" cy="373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ulture-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Kanye West rend visite à Occupy Wall Street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Monotype Corsiva"/>
              </a:rPr>
              <a:t>Le rappeur américain a fait une brève apparition lundi 10 octobre auprès des indignés américai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6" descr="C:\Users\Adi\Desktop\FRANCE2-Equipe2\paris mode.jpg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Adi\Desktop\FRANCE2-Equipe2\christian dior.jpg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4617b"/>
                </a:solidFill>
                <a:uFillTx/>
                <a:latin typeface="Monotype Corsiva"/>
              </a:rPr>
              <a:t>Informations  genera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Kanye West est apparu en compagnie de Russell Simmons sur Zuccotti Park, au sud de Manhattan, où des centaines de personnes manifestent pacifiquement depuis plusieurs sema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West, jetsetteur, fana de mode et amateur de grosses chaînes en or, d'apporter son soutien aux manifestants du mouvement contre la finance débridé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C:\Users\Adi\Desktop\FRANCE2-Equipe2\wall st.jpg"/>
          <p:cNvPicPr/>
          <p:nvPr/>
        </p:nvPicPr>
        <p:blipFill>
          <a:blip r:embed="rId1"/>
          <a:stretch/>
        </p:blipFill>
        <p:spPr>
          <a:xfrm>
            <a:off x="152280" y="160020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f0aafc"/>
                </a:solidFill>
                <a:latin typeface="Calibri"/>
              </a:rPr>
              <a:t>O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bfbfbf"/>
                </a:solidFill>
                <a:latin typeface="Calibri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a mod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cor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quotidi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ma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s loisi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C:\Users\Adi\Desktop\FRANCE2-Equipe2\ok ok.jpg"/>
          <p:cNvPicPr/>
          <p:nvPr/>
        </p:nvPicPr>
        <p:blipFill>
          <a:blip r:embed="rId1"/>
          <a:stretch/>
        </p:blipFill>
        <p:spPr>
          <a:xfrm>
            <a:off x="152280" y="4114800"/>
            <a:ext cx="3124440" cy="2590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9" name="Picture 8" descr="C:\Users\Adi\Desktop\FRANCE2-Equipe2\comment ce va bien.jpg"/>
          <p:cNvPicPr/>
          <p:nvPr/>
        </p:nvPicPr>
        <p:blipFill>
          <a:blip r:embed="rId2"/>
          <a:stretch/>
        </p:blipFill>
        <p:spPr>
          <a:xfrm>
            <a:off x="5867280" y="1143000"/>
            <a:ext cx="3276720" cy="5715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Users\Adi\Desktop\FRANCE2-Equipe2\arton.jpg"/>
          <p:cNvPicPr/>
          <p:nvPr/>
        </p:nvPicPr>
        <p:blipFill>
          <a:blip r:embed="rId3"/>
          <a:stretch/>
        </p:blipFill>
        <p:spPr>
          <a:xfrm>
            <a:off x="3962520" y="411480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ab0c6"/>
                </a:solidFill>
                <a:uFillTx/>
                <a:latin typeface="Calibri"/>
              </a:rPr>
              <a:t>Les glaciers pyrénéens fondent à vue d'oeil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Dans le article il se parle sur le glaciers de Mountage p</a:t>
            </a:r>
            <a:r>
              <a:rPr b="1" lang="fr-FR" sz="2800" spc="-1" strike="noStrike">
                <a:solidFill>
                  <a:srgbClr val="7030a0"/>
                </a:solidFill>
                <a:latin typeface="Constantia"/>
              </a:rPr>
              <a:t>yrénéens </a:t>
            </a:r>
            <a:r>
              <a:rPr b="1" lang="ro-RO" sz="2800" spc="-1" strike="noStrike">
                <a:solidFill>
                  <a:srgbClr val="7030a0"/>
                </a:solidFill>
                <a:latin typeface="Constantia"/>
              </a:rPr>
              <a:t> qui fondent  a cause de </a:t>
            </a: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réchauffement climatique .Les glaciers ont perdu 80%  de leur surface.Pierre Rene voit leur disaparation dans les decennies a v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5" descr="C:\Users\Adi\Desktop\FRANCE2-Equipe2\image_70661067.jp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Pour les eleves,un post TV est importante pour leur lecture.Ils peut apprendre a lire et a  parler</a:t>
            </a:r>
            <a:r>
              <a:rPr b="0" i="1" lang="ro-RO" sz="4400" spc="-1" strike="noStrike">
                <a:solidFill>
                  <a:srgbClr val="ff0000"/>
                </a:solidFill>
                <a:latin typeface="Monotype Corsiva"/>
              </a:rPr>
              <a:t> on </a:t>
            </a: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Français.Un chaîne TV informe  la population avec de vrai nouvelles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0000"/>
                </a:solidFill>
                <a:latin typeface="Monotype Corsiva"/>
              </a:rPr>
              <a:t>France en miniatur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C:\Users\Adi\Desktop\FRANCE2-Equipe2\vin.jpg"/>
          <p:cNvPicPr/>
          <p:nvPr/>
        </p:nvPicPr>
        <p:blipFill>
          <a:blip r:embed="rId1"/>
          <a:stretch/>
        </p:blipFill>
        <p:spPr>
          <a:xfrm>
            <a:off x="7126200" y="-6480"/>
            <a:ext cx="202428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Adi\Desktop\FRANCE2-Equipe2\mont blanc.jpg"/>
          <p:cNvPicPr/>
          <p:nvPr/>
        </p:nvPicPr>
        <p:blipFill>
          <a:blip r:embed="rId2"/>
          <a:stretch/>
        </p:blipFill>
        <p:spPr>
          <a:xfrm>
            <a:off x="7400880" y="3733920"/>
            <a:ext cx="174312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1" name="Picture 4" descr="C:\Users\Adi\Desktop\FRANCE2-Equipe2\jjlkj.jpg"/>
          <p:cNvPicPr/>
          <p:nvPr/>
        </p:nvPicPr>
        <p:blipFill>
          <a:blip r:embed="rId3"/>
          <a:stretch/>
        </p:blipFill>
        <p:spPr>
          <a:xfrm>
            <a:off x="1752480" y="5029200"/>
            <a:ext cx="27432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2" name="Picture 5" descr="C:\Users\Adi\Desktop\FRANCE2-Equipe2\jhp.jpg"/>
          <p:cNvPicPr/>
          <p:nvPr/>
        </p:nvPicPr>
        <p:blipFill>
          <a:blip r:embed="rId4"/>
          <a:stretch/>
        </p:blipFill>
        <p:spPr>
          <a:xfrm>
            <a:off x="0" y="4497480"/>
            <a:ext cx="1981080" cy="236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3" name="Picture 6" descr="C:\Users\Adi\Desktop\FRANCE2-Equipe2\index.jpg"/>
          <p:cNvPicPr/>
          <p:nvPr/>
        </p:nvPicPr>
        <p:blipFill>
          <a:blip r:embed="rId5"/>
          <a:stretch/>
        </p:blipFill>
        <p:spPr>
          <a:xfrm>
            <a:off x="0" y="1600200"/>
            <a:ext cx="246708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Picture 7" descr="C:\Users\Adi\Desktop\FRANCE2-Equipe2\ihjroe'.jpg"/>
          <p:cNvPicPr/>
          <p:nvPr/>
        </p:nvPicPr>
        <p:blipFill>
          <a:blip r:embed="rId6"/>
          <a:stretch/>
        </p:blipFill>
        <p:spPr>
          <a:xfrm>
            <a:off x="4572000" y="5295960"/>
            <a:ext cx="2819520" cy="156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Picture 8" descr="C:\Users\Adi\Desktop\FRANCE2-Equipe2\harte.jpg"/>
          <p:cNvPicPr/>
          <p:nvPr/>
        </p:nvPicPr>
        <p:blipFill>
          <a:blip r:embed="rId7"/>
          <a:stretch/>
        </p:blipFill>
        <p:spPr>
          <a:xfrm>
            <a:off x="1447920" y="3429000"/>
            <a:ext cx="171108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6" name="Picture 9" descr="C:\Users\Adi\Desktop\FRANCE2-Equipe2\frnaceeee.jpg"/>
          <p:cNvPicPr/>
          <p:nvPr/>
        </p:nvPicPr>
        <p:blipFill>
          <a:blip r:embed="rId8"/>
          <a:stretch/>
        </p:blipFill>
        <p:spPr>
          <a:xfrm>
            <a:off x="3041640" y="3121200"/>
            <a:ext cx="1920960" cy="221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C:\Users\Adi\Desktop\FRANCE2-Equipe2\Franta.jpg"/>
          <p:cNvPicPr/>
          <p:nvPr/>
        </p:nvPicPr>
        <p:blipFill>
          <a:blip r:embed="rId9"/>
          <a:stretch/>
        </p:blipFill>
        <p:spPr>
          <a:xfrm>
            <a:off x="6410160" y="1828800"/>
            <a:ext cx="273384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8" name="Picture 11" descr="C:\Users\Adi\Desktop\FRANCE2-Equipe2\disneyland.jpg"/>
          <p:cNvPicPr/>
          <p:nvPr/>
        </p:nvPicPr>
        <p:blipFill>
          <a:blip r:embed="rId10"/>
          <a:stretch/>
        </p:blipFill>
        <p:spPr>
          <a:xfrm>
            <a:off x="2362320" y="1600200"/>
            <a:ext cx="246672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9" name="Picture 12" descr="C:\Users\Adi\Desktop\FRANCE2-Equipe2\catredala.jpg"/>
          <p:cNvPicPr/>
          <p:nvPr/>
        </p:nvPicPr>
        <p:blipFill>
          <a:blip r:embed="rId11"/>
          <a:stretch/>
        </p:blipFill>
        <p:spPr>
          <a:xfrm>
            <a:off x="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C:\Users\Adi\Desktop\FRANCE2-Equipe2\biblioteque nationale.jpg"/>
          <p:cNvPicPr/>
          <p:nvPr/>
        </p:nvPicPr>
        <p:blipFill>
          <a:blip r:embed="rId12"/>
          <a:stretch/>
        </p:blipFill>
        <p:spPr>
          <a:xfrm>
            <a:off x="4800600" y="1600200"/>
            <a:ext cx="167652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41" name="Picture 14" descr="C:\Users\Adi\Desktop\FRANCE2-Equipe2\AIR FRANCE.jpg"/>
          <p:cNvPicPr/>
          <p:nvPr/>
        </p:nvPicPr>
        <p:blipFill>
          <a:blip r:embed="rId13"/>
          <a:stretch/>
        </p:blipFill>
        <p:spPr>
          <a:xfrm>
            <a:off x="4800600" y="3429000"/>
            <a:ext cx="2619360" cy="196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</dc:creator>
  <dc:description/>
  <dc:language>en-US</dc:language>
  <cp:lastModifiedBy>user</cp:lastModifiedBy>
  <dcterms:modified xsi:type="dcterms:W3CDTF">2011-10-25T19:08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